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gif" ContentType="image/gif"/>
  <Override PartName="/ppt/media/image66.jpeg" ContentType="image/jpeg"/>
  <Override PartName="/ppt/media/image53.png" ContentType="image/png"/>
  <Override PartName="/ppt/media/image50.gif" ContentType="image/gif"/>
  <Override PartName="/ppt/media/image52.gif" ContentType="image/gif"/>
  <Override PartName="/ppt/media/image20.jpeg" ContentType="image/jpeg"/>
  <Override PartName="/ppt/media/image49.gif" ContentType="image/gif"/>
  <Override PartName="/ppt/media/image48.gif" ContentType="image/gif"/>
  <Override PartName="/ppt/media/image47.gif" ContentType="image/gif"/>
  <Override PartName="/ppt/media/image40.jpeg" ContentType="image/jpeg"/>
  <Override PartName="/ppt/media/image1.wmf" ContentType="image/x-wmf"/>
  <Override PartName="/ppt/media/image37.jpeg" ContentType="image/jpeg"/>
  <Override PartName="/ppt/media/image43.gif" ContentType="image/gif"/>
  <Override PartName="/ppt/media/image36.png" ContentType="image/png"/>
  <Override PartName="/ppt/media/image9.jpeg" ContentType="image/jpeg"/>
  <Override PartName="/ppt/media/image54.gif" ContentType="image/gif"/>
  <Override PartName="/ppt/media/image55.gif" ContentType="image/gif"/>
  <Override PartName="/ppt/media/image11.png" ContentType="image/png"/>
  <Override PartName="/ppt/media/image2.png" ContentType="image/png"/>
  <Override PartName="/ppt/media/image16.jpeg" ContentType="image/jpeg"/>
  <Override PartName="/ppt/media/image21.jpeg" ContentType="image/jpeg"/>
  <Override PartName="/ppt/media/image62.gif" ContentType="image/gif"/>
  <Override PartName="/ppt/media/image12.jpeg" ContentType="image/jpeg"/>
  <Override PartName="/ppt/media/image4.png" ContentType="image/png"/>
  <Override PartName="/ppt/media/image75.jpeg" ContentType="image/jpeg"/>
  <Override PartName="/ppt/media/image74.jpeg" ContentType="image/jpeg"/>
  <Override PartName="/ppt/media/image64.gif" ContentType="image/gif"/>
  <Override PartName="/ppt/media/image29.gif" ContentType="image/gif"/>
  <Override PartName="/ppt/media/image71.gif" ContentType="image/gif"/>
  <Override PartName="/ppt/media/image15.jpeg" ContentType="image/jpeg"/>
  <Override PartName="/ppt/media/image18.jpeg" ContentType="image/jpeg"/>
  <Override PartName="/ppt/media/image59.gif" ContentType="image/gif"/>
  <Override PartName="/ppt/media/image73.png" ContentType="image/png"/>
  <Override PartName="/ppt/media/image70.gif" ContentType="image/gif"/>
  <Override PartName="/ppt/media/image28.gif" ContentType="image/gif"/>
  <Override PartName="/ppt/media/image69.gif" ContentType="image/gif"/>
  <Override PartName="/ppt/media/image19.jpeg" ContentType="image/jpeg"/>
  <Override PartName="/ppt/media/image42.jpeg" ContentType="image/jpeg"/>
  <Override PartName="/ppt/media/image38.jpeg" ContentType="image/jpeg"/>
  <Override PartName="/ppt/media/image72.png" ContentType="image/png"/>
  <Override PartName="/ppt/media/image32.jpeg" ContentType="image/jpeg"/>
  <Override PartName="/ppt/media/image24.gif" ContentType="image/gif"/>
  <Override PartName="/ppt/media/image67.gif" ContentType="image/gif"/>
  <Override PartName="/ppt/media/image61.gif" ContentType="image/gif"/>
  <Override PartName="/ppt/media/image14.jpeg" ContentType="image/jpeg"/>
  <Override PartName="/ppt/media/image26.gif" ContentType="image/gif"/>
  <Override PartName="/ppt/media/image3.png" ContentType="image/png"/>
  <Override PartName="/ppt/media/image23.gif" ContentType="image/gif"/>
  <Override PartName="/ppt/media/image60.gif" ContentType="image/gif"/>
  <Override PartName="/ppt/media/image6.jpeg" ContentType="image/jpeg"/>
  <Override PartName="/ppt/media/image25.gif" ContentType="image/gif"/>
  <Override PartName="/ppt/media/image41.jpeg" ContentType="image/jpeg"/>
  <Override PartName="/ppt/media/image63.gif" ContentType="image/gif"/>
  <Override PartName="/ppt/media/image8.png" ContentType="image/png"/>
  <Override PartName="/ppt/media/image45.gif" ContentType="image/gif"/>
  <Override PartName="/ppt/media/image27.gif" ContentType="image/gif"/>
  <Override PartName="/ppt/media/image51.jpeg" ContentType="image/jpeg"/>
  <Override PartName="/ppt/media/image22.jpeg" ContentType="image/jpeg"/>
  <Override PartName="/ppt/media/image65.jpeg" ContentType="image/jpeg"/>
  <Override PartName="/ppt/media/image46.gif" ContentType="image/gif"/>
  <Override PartName="/ppt/media/image7.png" ContentType="image/png"/>
  <Override PartName="/ppt/media/image34.jpeg" ContentType="image/jpeg"/>
  <Override PartName="/ppt/media/image44.gif" ContentType="image/gif"/>
  <Override PartName="/ppt/media/image17.png" ContentType="image/png"/>
  <Override PartName="/ppt/media/image39.jpeg" ContentType="image/jpeg"/>
  <Override PartName="/ppt/media/image5.png" ContentType="image/png"/>
  <Override PartName="/ppt/media/image13.png" ContentType="image/png"/>
  <Override PartName="/ppt/media/image57.gif" ContentType="image/gif"/>
  <Override PartName="/ppt/media/image10.jpeg" ContentType="image/jpeg"/>
  <Override PartName="/ppt/media/image58.gif" ContentType="image/gif"/>
  <Override PartName="/ppt/media/image30.jpeg" ContentType="image/jpeg"/>
  <Override PartName="/ppt/media/image68.gif" ContentType="image/gif"/>
  <Override PartName="/ppt/media/image31.jpeg" ContentType="image/jpeg"/>
  <Override PartName="/ppt/media/image33.jpeg" ContentType="image/jpeg"/>
  <Override PartName="/ppt/media/image3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5074-B5DD-484B-B485-2737F4034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63C2-FB83-4B24-A240-9523C623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3989-4A15-4DBF-BCA2-10E12911B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57A7-B346-4C91-817E-654ACEDD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4930-97B2-4287-ADCC-D07AB1A3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E267-2485-4AB6-8023-07153E3F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5502-DD86-4313-854F-553533C7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A4A9-228D-4B0F-88D0-188F0DD1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AE8E-D988-4C55-B178-1004F89E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FF0C-152E-4949-A888-D37E2C35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AFF2-7F6A-4F59-AC5A-79834132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4520-EFD4-4099-8250-65EDCB40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015A-31F6-4C1A-95B0-70628D8A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1B54-1F38-4307-B582-97F967CD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BD7C-784D-4FBF-ACB4-1654F8B7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1AF9-3F78-4454-8CF4-56528FD2C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A96A-D39B-4FBA-84E2-B325ACB77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F2B2-545D-4CBC-83A8-97ADE05B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5F94-C417-4A9F-AD35-CC78A809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017A-D77E-4749-B83C-B31C60B7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7868-7A86-4E01-94D3-11B1B6AC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BAB6-9723-4898-ACD2-DD2B2B36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41D9-4A9C-418D-A893-AE58BA00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1A1C-CE61-4DA4-A781-5A6954F5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455A-3A4F-4338-8FCC-2B42B44C9F8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788B-331C-4057-B4EA-6425A774512E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gif"/><Relationship Id="rId8" Type="http://schemas.openxmlformats.org/officeDocument/2006/relationships/image" Target="../media/image24.gif"/><Relationship Id="rId9" Type="http://schemas.openxmlformats.org/officeDocument/2006/relationships/image" Target="../media/image25.gif"/><Relationship Id="rId10" Type="http://schemas.openxmlformats.org/officeDocument/2006/relationships/image" Target="../media/image26.gif"/><Relationship Id="rId11" Type="http://schemas.openxmlformats.org/officeDocument/2006/relationships/image" Target="../media/image27.gif"/><Relationship Id="rId12" Type="http://schemas.openxmlformats.org/officeDocument/2006/relationships/image" Target="../media/image28.gif"/><Relationship Id="rId13" Type="http://schemas.openxmlformats.org/officeDocument/2006/relationships/image" Target="../media/image29.gif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gif"/><Relationship Id="rId3" Type="http://schemas.openxmlformats.org/officeDocument/2006/relationships/image" Target="../media/image45.gif"/><Relationship Id="rId4" Type="http://schemas.openxmlformats.org/officeDocument/2006/relationships/image" Target="../media/image46.gif"/><Relationship Id="rId5" Type="http://schemas.openxmlformats.org/officeDocument/2006/relationships/image" Target="../media/image47.gif"/><Relationship Id="rId6" Type="http://schemas.openxmlformats.org/officeDocument/2006/relationships/image" Target="../media/image48.gif"/><Relationship Id="rId7" Type="http://schemas.openxmlformats.org/officeDocument/2006/relationships/image" Target="../media/image49.gif"/><Relationship Id="rId8" Type="http://schemas.openxmlformats.org/officeDocument/2006/relationships/image" Target="../media/image50.gi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gif"/><Relationship Id="rId3" Type="http://schemas.openxmlformats.org/officeDocument/2006/relationships/image" Target="../media/image53.png"/><Relationship Id="rId4" Type="http://schemas.openxmlformats.org/officeDocument/2006/relationships/image" Target="../media/image54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image" Target="../media/image56.gif"/><Relationship Id="rId3" Type="http://schemas.openxmlformats.org/officeDocument/2006/relationships/image" Target="../media/image57.gif"/><Relationship Id="rId4" Type="http://schemas.openxmlformats.org/officeDocument/2006/relationships/image" Target="../media/image58.gif"/><Relationship Id="rId5" Type="http://schemas.openxmlformats.org/officeDocument/2006/relationships/image" Target="../media/image59.gif"/><Relationship Id="rId6" Type="http://schemas.openxmlformats.org/officeDocument/2006/relationships/image" Target="../media/image60.gif"/><Relationship Id="rId7" Type="http://schemas.openxmlformats.org/officeDocument/2006/relationships/image" Target="../media/image61.gif"/><Relationship Id="rId8" Type="http://schemas.openxmlformats.org/officeDocument/2006/relationships/image" Target="../media/image62.gif"/><Relationship Id="rId9" Type="http://schemas.openxmlformats.org/officeDocument/2006/relationships/image" Target="../media/image63.gi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4.gif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7.gif"/><Relationship Id="rId2" Type="http://schemas.openxmlformats.org/officeDocument/2006/relationships/image" Target="../media/image68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gif"/><Relationship Id="rId2" Type="http://schemas.openxmlformats.org/officeDocument/2006/relationships/image" Target="../media/image70.gif"/><Relationship Id="rId3" Type="http://schemas.openxmlformats.org/officeDocument/2006/relationships/image" Target="../media/image71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4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3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0" y="836640"/>
            <a:ext cx="7561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рок русского языка в 3 класс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«Имя прилагательное – самая красочная часть речи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7" name="Picture 4" descr="Белый"/>
          <p:cNvPicPr/>
          <p:nvPr/>
        </p:nvPicPr>
        <p:blipFill>
          <a:blip r:embed="rId1"/>
          <a:stretch/>
        </p:blipFill>
        <p:spPr>
          <a:xfrm>
            <a:off x="-396720" y="-171360"/>
            <a:ext cx="9540720" cy="7407360"/>
          </a:xfrm>
          <a:prstGeom prst="rect">
            <a:avLst/>
          </a:prstGeom>
          <a:ln w="0">
            <a:noFill/>
          </a:ln>
        </p:spPr>
      </p:pic>
      <p:sp>
        <p:nvSpPr>
          <p:cNvPr id="238" name="WordArt 5"/>
          <p:cNvSpPr txBox="1"/>
          <p:nvPr/>
        </p:nvSpPr>
        <p:spPr>
          <a:xfrm>
            <a:off x="971640" y="476280"/>
            <a:ext cx="7867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мя прилагательн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спользуетс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ля обозначения ЦВЕ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9" name="WordArt 6"/>
          <p:cNvSpPr txBox="1"/>
          <p:nvPr/>
        </p:nvSpPr>
        <p:spPr>
          <a:xfrm>
            <a:off x="2050920" y="1844640"/>
            <a:ext cx="49723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ким был бы наш мир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з прилагательных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0" name="Picture 8" descr="раскраска ,белая"/>
          <p:cNvPicPr/>
          <p:nvPr/>
        </p:nvPicPr>
        <p:blipFill>
          <a:blip r:embed="rId2"/>
          <a:stretch/>
        </p:blipFill>
        <p:spPr>
          <a:xfrm>
            <a:off x="2843280" y="3141720"/>
            <a:ext cx="3274920" cy="39862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раскраска зеленая"/>
          <p:cNvPicPr/>
          <p:nvPr/>
        </p:nvPicPr>
        <p:blipFill>
          <a:blip r:embed="rId3"/>
          <a:stretch/>
        </p:blipFill>
        <p:spPr>
          <a:xfrm>
            <a:off x="2916360" y="3141720"/>
            <a:ext cx="3240000" cy="4010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коричневый"/>
          <p:cNvPicPr/>
          <p:nvPr/>
        </p:nvPicPr>
        <p:blipFill>
          <a:blip r:embed="rId4"/>
          <a:stretch/>
        </p:blipFill>
        <p:spPr>
          <a:xfrm>
            <a:off x="2987640" y="3068640"/>
            <a:ext cx="3168720" cy="4010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красный"/>
          <p:cNvPicPr/>
          <p:nvPr/>
        </p:nvPicPr>
        <p:blipFill>
          <a:blip r:embed="rId5"/>
          <a:stretch/>
        </p:blipFill>
        <p:spPr>
          <a:xfrm>
            <a:off x="2843280" y="2852640"/>
            <a:ext cx="3220920" cy="4297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3" descr="солныш"/>
          <p:cNvPicPr/>
          <p:nvPr/>
        </p:nvPicPr>
        <p:blipFill>
          <a:blip r:embed="rId6"/>
          <a:stretch/>
        </p:blipFill>
        <p:spPr>
          <a:xfrm>
            <a:off x="611280" y="2852640"/>
            <a:ext cx="1228680" cy="1171800"/>
          </a:xfrm>
          <a:prstGeom prst="rect">
            <a:avLst/>
          </a:prstGeom>
          <a:ln w="0">
            <a:noFill/>
          </a:ln>
        </p:spPr>
      </p:pic>
      <p:sp>
        <p:nvSpPr>
          <p:cNvPr id="245" name="WordArt 14"/>
          <p:cNvSpPr txBox="1"/>
          <p:nvPr/>
        </p:nvSpPr>
        <p:spPr>
          <a:xfrm>
            <a:off x="971640" y="476280"/>
            <a:ext cx="7867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мя прилагательн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спользуетс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ля обозначения ЦВЕ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46" name="Picture 17" descr="rosen-0061"/>
          <p:cNvPicPr/>
          <p:nvPr/>
        </p:nvPicPr>
        <p:blipFill>
          <a:blip r:embed="rId7"/>
          <a:stretch/>
        </p:blipFill>
        <p:spPr>
          <a:xfrm>
            <a:off x="7451640" y="5589720"/>
            <a:ext cx="720720" cy="707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8" descr="rosen-0070"/>
          <p:cNvPicPr/>
          <p:nvPr/>
        </p:nvPicPr>
        <p:blipFill>
          <a:blip r:embed="rId8"/>
          <a:stretch/>
        </p:blipFill>
        <p:spPr>
          <a:xfrm>
            <a:off x="6877080" y="5300640"/>
            <a:ext cx="739800" cy="865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0" descr="rosen-0074"/>
          <p:cNvPicPr/>
          <p:nvPr/>
        </p:nvPicPr>
        <p:blipFill>
          <a:blip r:embed="rId9"/>
          <a:stretch/>
        </p:blipFill>
        <p:spPr>
          <a:xfrm>
            <a:off x="7308720" y="5994360"/>
            <a:ext cx="738360" cy="8636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1" descr="rosen-0076"/>
          <p:cNvPicPr/>
          <p:nvPr/>
        </p:nvPicPr>
        <p:blipFill>
          <a:blip r:embed="rId10"/>
          <a:stretch/>
        </p:blipFill>
        <p:spPr>
          <a:xfrm>
            <a:off x="6588000" y="5805360"/>
            <a:ext cx="738360" cy="863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2" descr="btterfly033"/>
          <p:cNvPicPr/>
          <p:nvPr/>
        </p:nvPicPr>
        <p:blipFill>
          <a:blip r:embed="rId11"/>
          <a:stretch/>
        </p:blipFill>
        <p:spPr>
          <a:xfrm>
            <a:off x="7093080" y="2276640"/>
            <a:ext cx="1612800" cy="2016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3" descr="btterfly029"/>
          <p:cNvPicPr/>
          <p:nvPr/>
        </p:nvPicPr>
        <p:blipFill>
          <a:blip r:embed="rId12"/>
          <a:stretch/>
        </p:blipFill>
        <p:spPr>
          <a:xfrm>
            <a:off x="555480" y="4869000"/>
            <a:ext cx="1784520" cy="18651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24"/>
          <p:cNvSpPr/>
          <p:nvPr/>
        </p:nvSpPr>
        <p:spPr>
          <a:xfrm>
            <a:off x="5724360" y="321300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c82b"/>
                </a:solidFill>
                <a:latin typeface="Arial"/>
              </a:rPr>
              <a:t>Зеленый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Text Box 25"/>
          <p:cNvSpPr/>
          <p:nvPr/>
        </p:nvSpPr>
        <p:spPr>
          <a:xfrm>
            <a:off x="4716360" y="5516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Коричневый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Text Box 26"/>
          <p:cNvSpPr/>
          <p:nvPr/>
        </p:nvSpPr>
        <p:spPr>
          <a:xfrm>
            <a:off x="2484360" y="5445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2511"/>
                </a:solidFill>
                <a:latin typeface="Arial"/>
              </a:rPr>
              <a:t>Красный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WordArt 27"/>
          <p:cNvSpPr txBox="1"/>
          <p:nvPr/>
        </p:nvSpPr>
        <p:spPr>
          <a:xfrm>
            <a:off x="324000" y="1916280"/>
            <a:ext cx="78530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 какие еще цвета вы видит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 картинке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6" name="Picture 28" descr="Photo 031"/>
          <p:cNvPicPr/>
          <p:nvPr/>
        </p:nvPicPr>
        <p:blipFill>
          <a:blip r:embed="rId13"/>
          <a:stretch/>
        </p:blipFill>
        <p:spPr>
          <a:xfrm>
            <a:off x="6012000" y="3645000"/>
            <a:ext cx="11523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7d47d"/>
                </a:solidFill>
                <a:latin typeface="Arial"/>
              </a:rPr>
              <a:t>Имя прилагательное используется для обозначения звука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468360" y="1197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Составьте пары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395280" y="227664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Звонки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395280" y="32130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ромки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539640" y="501336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аскатист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539640" y="407664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крипучи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3" name="Picture 10" descr="барабанэ"/>
          <p:cNvPicPr/>
          <p:nvPr/>
        </p:nvPicPr>
        <p:blipFill>
          <a:blip r:embed="rId1"/>
          <a:stretch/>
        </p:blipFill>
        <p:spPr>
          <a:xfrm>
            <a:off x="5867280" y="5516640"/>
            <a:ext cx="1440000" cy="1008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1" descr="смех"/>
          <p:cNvPicPr/>
          <p:nvPr/>
        </p:nvPicPr>
        <p:blipFill>
          <a:blip r:embed="rId2"/>
          <a:stretch/>
        </p:blipFill>
        <p:spPr>
          <a:xfrm>
            <a:off x="5940360" y="1916280"/>
            <a:ext cx="936720" cy="9842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2" descr="гром"/>
          <p:cNvPicPr/>
          <p:nvPr/>
        </p:nvPicPr>
        <p:blipFill>
          <a:blip r:embed="rId3"/>
          <a:stretch/>
        </p:blipFill>
        <p:spPr>
          <a:xfrm>
            <a:off x="5867280" y="3068640"/>
            <a:ext cx="1297080" cy="1008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3" descr="сапог"/>
          <p:cNvPicPr/>
          <p:nvPr/>
        </p:nvPicPr>
        <p:blipFill>
          <a:blip r:embed="rId4"/>
          <a:stretch/>
        </p:blipFill>
        <p:spPr>
          <a:xfrm>
            <a:off x="5940360" y="4437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14"/>
          <p:cNvSpPr/>
          <p:nvPr/>
        </p:nvSpPr>
        <p:spPr>
          <a:xfrm>
            <a:off x="4140360" y="2924280"/>
            <a:ext cx="3311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А какие еще имена прилагательные, обозначающие звук, вы знаете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84 0.02128 C -0.12743 0.01827 -0.19201 0.01619 -0.21927 -0.04326 C -0.24635 -0.10248 -0.20798 -0.25792 -0.22656 -0.33634 C -0.24514 -0.41453 -0.28819 -0.46449 -0.33055 -0.514 E">
                                      <p:cBhvr>
                                        <p:cTn id="197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562 0.02846 C 0.06232 0.02799 0.05903 0.02799 0.0559 0.02684 C 0.05191 0.02545 0.04739 0.01851 0.04392 0.01596 C 0.03958 0.01273 0.03455 0.01088 0.02951 0.00949 C 0.02135 0.0044 0.01198 0.00394 0.00312 0.00185 C -0.01754 0.00278 -0.03733 0.00486 -0.05816 0.00648 C -0.07361 0.00903 -0.08924 0.01018 -0.10486 0.01273 C -0.11146 0.01828 -0.11424 0.01712 -0.12049 0.02522 C -0.12379 0.03863 -0.11875 0.0229 -0.12518 0.03146 C -0.12604 0.03262 -0.12552 0.03493 -0.12656 0.03632 C -0.12813 0.03887 -0.13143 0.04002 -0.13368 0.04095 C -0.14236 0.05228 -0.13247 0.0384 -0.13976 0.05182 C -0.14323 0.0583 -0.14254 0.05506 -0.14688 0.05968 C -0.15955 0.07356 -0.14306 0.05645 -0.15295 0.06917 C -0.15521 0.07218 -0.15781 0.07403 -0.16007 0.07703 C -0.16198 0.08351 -0.16215 0.08606 -0.16615 0.09114 C -0.16893 0.10132 -0.16511 0.09045 -0.17101 0.09901 C -0.17292 0.10178 -0.1757 0.10826 -0.1757 0.10849 C -0.17813 0.11798 -0.17952 0.12284 -0.18403 0.13186 C -0.18559 0.1351 -0.18906 0.14134 -0.18906 0.14157 C -0.18959 0.14319 -0.19063 0.1499 -0.19254 0.15059 C -0.20122 0.15383 -0.21302 0.15383 -0.22257 0.15684 C -0.23004 0.15915 -0.23663 0.16424 -0.2441 0.16632 C -0.26059 0.16586 -0.27691 0.16563 -0.2934 0.1647 C -0.29809 0.16447 -0.30226 0.16193 -0.3066 0.16008 C -0.31111 0.158 -0.32188 0.15846 -0.32691 0.15846 E">
                                      <p:cBhvr>
                                        <p:cTn id="200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93 0.01411 C -0.06823 0.06523 -0.08698 0.11612 -0.12066 0.13185 C -0.15416 0.14758 -0.24392 0.13254 -0.25121 0.10779 C -0.2585 0.08327 -0.14965 0.01041 -0.16406 -0.0162 C -0.17864 -0.0428 -0.3092 -0.04604 -0.33819 -0.05182 E">
                                      <p:cBhvr>
                                        <p:cTn id="203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017 0.06963 C -0.12031 0.0347 -0.19028 0.000230000000000001 -0.23559 0.04118 C -0.28108 0.08212 -0.30799 0.26903 -0.32274 0.31506 E">
                                      <p:cBhvr>
                                        <p:cTn id="206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5" descr="Копия 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8"/>
          <p:cNvSpPr/>
          <p:nvPr/>
        </p:nvSpPr>
        <p:spPr>
          <a:xfrm>
            <a:off x="2411280" y="1197000"/>
            <a:ext cx="43214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кже имена прилагательные используются для обозначения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52511"/>
                </a:solidFill>
                <a:latin typeface="Times New Roman"/>
              </a:rPr>
              <a:t>запаха, формы, движения, ощущения и т.д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ведите примеры!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5" descr="Фон снежинки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271" name="WordArt 6"/>
          <p:cNvSpPr txBox="1"/>
          <p:nvPr/>
        </p:nvSpPr>
        <p:spPr>
          <a:xfrm>
            <a:off x="1763640" y="1125360"/>
            <a:ext cx="511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ЗМИНКА ДЛЯ ГЛАЗ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4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снежинка 1"/>
          <p:cNvPicPr/>
          <p:nvPr/>
        </p:nvPicPr>
        <p:blipFill>
          <a:blip r:embed="rId2"/>
          <a:stretch/>
        </p:blipFill>
        <p:spPr>
          <a:xfrm>
            <a:off x="1042920" y="836640"/>
            <a:ext cx="1139760" cy="11523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снежинка 2"/>
          <p:cNvPicPr/>
          <p:nvPr/>
        </p:nvPicPr>
        <p:blipFill>
          <a:blip r:embed="rId3"/>
          <a:stretch/>
        </p:blipFill>
        <p:spPr>
          <a:xfrm>
            <a:off x="6156360" y="3860640"/>
            <a:ext cx="1368360" cy="10810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снежинка 3"/>
          <p:cNvPicPr/>
          <p:nvPr/>
        </p:nvPicPr>
        <p:blipFill>
          <a:blip r:embed="rId4"/>
          <a:stretch/>
        </p:blipFill>
        <p:spPr>
          <a:xfrm>
            <a:off x="3635280" y="2421000"/>
            <a:ext cx="1197000" cy="10414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снежинка 4"/>
          <p:cNvPicPr/>
          <p:nvPr/>
        </p:nvPicPr>
        <p:blipFill>
          <a:blip r:embed="rId5"/>
          <a:stretch/>
        </p:blipFill>
        <p:spPr>
          <a:xfrm>
            <a:off x="6156360" y="981000"/>
            <a:ext cx="1096920" cy="9432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" descr="снежинка 5"/>
          <p:cNvPicPr/>
          <p:nvPr/>
        </p:nvPicPr>
        <p:blipFill>
          <a:blip r:embed="rId6"/>
          <a:stretch/>
        </p:blipFill>
        <p:spPr>
          <a:xfrm>
            <a:off x="1116000" y="3789360"/>
            <a:ext cx="1190520" cy="1008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СНЕЖИНКА 6"/>
          <p:cNvPicPr/>
          <p:nvPr/>
        </p:nvPicPr>
        <p:blipFill>
          <a:blip r:embed="rId7"/>
          <a:stretch/>
        </p:blipFill>
        <p:spPr>
          <a:xfrm>
            <a:off x="3635280" y="5157720"/>
            <a:ext cx="1297080" cy="11336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11"/>
          <p:cNvSpPr/>
          <p:nvPr/>
        </p:nvSpPr>
        <p:spPr>
          <a:xfrm>
            <a:off x="1835280" y="189000"/>
            <a:ext cx="60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Следи глазами за снежинкам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3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155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1155" fill="hold"/>
                                        <p:tgtEl>
                                          <p:spTgt spid="2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3" dur="1155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5" dur="1155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39 0.01179 C -0.10451 0.01041 -0.13142 0.01133 -0.1618 0.00231 C -0.16667 -0.00185 -0.16927 -0.00579 -0.17483 -0.00879 C -0.17986 -0.01527 -0.18559 -0.01943 -0.19236 -0.0229 C -0.19323 -0.02452 -0.19375 -0.02591 -0.19479 -0.02753 C -0.19583 -0.02892 -0.19739 -0.02938 -0.19826 -0.03054 C -0.20017 -0.03354 -0.20104 -0.03748 -0.20295 -0.04002 C -0.20417 -0.04164 -0.20538 -0.04303 -0.2066 -0.04465 C -0.20851 -0.05459 -0.21163 -0.0613 -0.21823 -0.06685 C -0.21927 -0.07541 -0.21944 -0.09207 -0.22309 -0.09947 C -0.22674 -0.10687 -0.22483 -0.10225 -0.22778 -0.11358 C -0.23073 -0.12492 -0.23177 -0.13787 -0.23368 -0.14967 C -0.23594 -0.18807 -0.23559 -0.1728 -0.23368 -0.23896 C -0.23351 -0.24636 -0.23229 -0.25307 -0.22778 -0.25769 C -0.22552 -0.26001 -0.22066 -0.26394 -0.22066 -0.26394 C -0.21736 -0.27065 -0.21111 -0.27712 -0.20538 -0.27967 C -0.20208 -0.2843 -0.19878 -0.28707 -0.19479 -0.29077 C -0.1908 -0.29841 -0.18576 -0.30141 -0.17951 -0.30488 C -0.17274 -0.3139 -0.16389 -0.31252 -0.15486 -0.31414 C -0.1493 -0.31506 -0.13837 -0.31737 -0.13837 -0.31737 C -0.08663 -0.31691 -0.03472 -0.31668 0.01701 -0.31576 C 0.06389 -0.31483 0.11163 -0.30604 0.15816 -0.30003 C 0.18056 -0.29725 0.20295 -0.29725 0.22517 -0.29216 C 0.23351 -0.28684 0.23924 -0.28568 0.24879 -0.28453 C 0.26927 -0.27481 0.25955 -0.27736 0.27813 -0.27504 C 0.29149 -0.27042 0.30313 -0.26325 0.31701 -0.26093 C 0.32535 -0.25538 0.33247 -0.25469 0.34167 -0.25307 C 0.35347 -0.24497 0.36771 -0.24011 0.38056 -0.23572 C 0.3842 -0.22808 0.39427 -0.22762 0.40052 -0.22485 C 0.40399 -0.2186 0.40573 -0.21606 0.41111 -0.21397 C 0.41684 -0.20865 0.4184 -0.20033 0.42396 -0.19524 C 0.4257 -0.18853 0.42986 -0.18575 0.43351 -0.1809 C 0.43386 -0.17928 0.43403 -0.17766 0.43455 -0.17627 C 0.43524 -0.17465 0.43646 -0.17349 0.43698 -0.17164 C 0.43993 -0.16031 0.43889 -0.14735 0.4441 -0.13718 C 0.44583 -0.12399 0.44792 -0.11104 0.45 -0.09785 C 0.44948 -0.08189 0.45278 -0.05529 0.44288 -0.04164 C 0.4408 -0.03354 0.43733 -0.02244 0.43108 -0.01943 C 0.42899 -0.00926 0.42813 -0.00671 0.42292 0.00069 C 0.42101 0.00786 0.41597 0.01295 0.41111 0.01642 C 0.40486 0.02845 0.39566 0.034 0.38524 0.03817 C 0.37361 0.05459 0.33958 0.04881 0.32639 0.0495 C 0.31823 0.05228 0.3099 0.0569 0.30174 0.05875 C 0.29861 0.05945 0.29531 0.05968 0.29219 0.06037 C 0.29028 0.06083 0.28837 0.06153 0.28646 0.06199 C 0.27813 0.06939 0.24219 0.06754 0.22517 0.06986 C 0.21024 0.07934 0.23333 0.06523 0.21337 0.07448 C 0.19722 0.08189 0.18333 0.09646 0.16528 0.09808 C 0.14375 0.09993 0.12205 0.10085 0.10052 0.1027 C 0.08403 0.10733 0.06788 0.11057 0.05104 0.11219 C 0.03594 0.11658 0.02049 0.12005 0.00521 0.12306 C -0.01094 0.13046 -0.01476 0.12838 -0.03715 0.12931 C -0.05243 0.13069 -0.06771 0.13278 -0.08299 0.13416 C -0.09757 0.1411 -0.09149 0.13879 -0.10069 0.14203 C -0.10451 0.14527 -0.10868 0.14804 -0.1125 0.15128 C -0.11927 0.16585 -0.11007 0.14851 -0.11823 0.15753 C -0.12674 0.16678 -0.11753 0.16192 -0.12535 0.16539 C -0.12917 0.16909 -0.13316 0.17279 -0.13715 0.1765 C -0.14028 0.18274 -0.14375 0.18806 -0.14774 0.19361 C -0.15017 0.2031 -0.14705 0.195 -0.15243 0.19986 C -0.15625 0.2031 -0.15799 0.20888 -0.1618 0.21235 C -0.16458 0.22137 -0.16892 0.226 -0.17239 0.23433 C -0.17639 0.24358 -0.17864 0.25954 -0.18177 0.27041 C -0.18333 0.28267 -0.18733 0.29401 -0.1901 0.30627 C -0.19184 0.3139 -0.19114 0.32269 -0.19358 0.33009 C -0.2 0.34929 -0.19722 0.33911 -0.20191 0.36132 C -0.20226 0.3678 -0.20139 0.3752 -0.20295 0.38145 C -0.20573 0.39394 -0.21476 0.41776 -0.21476 0.41776 C -0.2184 0.4409 -0.22639 0.46033 -0.23003 0.48346 C -0.23333 0.52556 -0.22812 0.47421 -0.23594 0.51353 C -0.23802 0.5244 -0.23767 0.53597 -0.24062 0.54638 C -0.24566 0.5635 -0.24392 0.55632 -0.24774 0.57761 C -0.24983 0.58963 -0.25035 0.60328 -0.25833 0.61068 C -0.26892 0.60791 -0.2658 0.60536 -0.27239 0.59657 C -0.27361 0.59148 -0.27708 0.58755 -0.2783 0.58246 C -0.2816 0.56928 -0.28194 0.55309 -0.29132 0.54476 C -0.29722 0.51792 -0.29496 0.48947 -0.30191 0.4631 C -0.30364 0.45709 -0.30382 0.44714 -0.30781 0.44298 E">
                                      <p:cBhvr>
                                        <p:cTn id="269" dur="3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4 -0.09138 C 0.0066 -0.09785 0.01493 -0.10826 0.01892 -0.11335 C 0.02031 -0.1152 0.02292 -0.11428 0.02483 -0.11497 C 0.03576 -0.11913 0.04653 -0.12214 0.05781 -0.12446 C 0.07239 -0.13024 0.08854 -0.12908 0.10364 -0.1307 C 0.14444 -0.13024 0.18524 -0.13139 0.22604 -0.12908 C 0.23906 -0.12839 0.25434 -0.11775 0.26719 -0.11335 C 0.27187 -0.10919 0.27708 -0.10896 0.28246 -0.10711 C 0.28854 -0.10155 0.29271 -0.09508 0.29896 -0.08999 C 0.30035 -0.08328 0.30087 -0.08097 0.30486 -0.07588 C 0.30937 -0.06292 0.31684 -0.0546 0.32239 -0.0428 C 0.32396 -0.03956 0.32483 -0.03563 0.32708 -0.03355 C 0.32951 -0.03146 0.3342 -0.02707 0.3342 -0.02707 C 0.33854 -0.01573 0.34323 -0.00347 0.34826 0.0074 C 0.34861 0.01156 0.34861 0.01573 0.34948 0.01989 C 0.35017 0.02313 0.35555 0.02914 0.3566 0.03053 C 0.36007 0.03631 0.36441 0.04464 0.36719 0.05112 C 0.37257 0.06453 0.36719 0.0606 0.37413 0.06384 C 0.37708 0.07494 0.37969 0.07517 0.38837 0.07934 C 0.39184 0.08697 0.39826 0.08905 0.40486 0.09044 C 0.40851 0.09229 0.41302 0.0909 0.41649 0.09345 C 0.41805 0.09461 0.41753 0.09831 0.41892 0.09969 C 0.42014 0.10108 0.42205 0.10085 0.42361 0.10131 C 0.43437 0.11034 0.42934 0.10779 0.43767 0.1108 C 0.44323 0.11612 0.44983 0.12213 0.4566 0.12468 C 0.46805 0.12954 0.47969 0.12977 0.49062 0.13717 C 0.50156 0.13694 0.51267 0.13671 0.52361 0.13578 C 0.52674 0.13555 0.52812 0.13254 0.53073 0.13092 C 0.53299 0.12977 0.53767 0.12792 0.53767 0.12792 C 0.61927 0.13 0.57621 0.13023 0.61649 0.13416 C 0.62795 0.13671 0.63924 0.13902 0.65069 0.14064 C 0.65799 0.14341 0.66302 0.14527 0.67066 0.14688 C 0.67448 0.1485 0.68125 0.15475 0.68125 0.15475 C 0.68455 0.1714 0.67969 0.15244 0.68594 0.16377 C 0.68819 0.16793 0.68906 0.17349 0.69062 0.17811 C 0.69305 0.18551 0.69774 0.19986 0.69774 0.19986 C 0.69878 0.20772 0.70052 0.21281 0.70243 0.22021 C 0.70364 0.23247 0.70521 0.24219 0.7059 0.25468 C 0.70694 0.31691 0.70642 0.31251 0.71302 0.3553 C 0.71267 0.3708 0.71267 0.38676 0.7118 0.40203 C 0.71163 0.40596 0.71111 0.41013 0.70955 0.41313 C 0.70712 0.41799 0.70486 0.42262 0.70243 0.42748 C 0.70156 0.42886 0.7 0.43187 0.7 0.43187 C 0.69774 0.44182 0.69687 0.452 0.69427 0.46171 C 0.6934 0.46495 0.69184 0.4712 0.69184 0.4712 C 0.68924 0.49479 0.69236 0.48669 0.68715 0.49803 C 0.68559 0.51006 0.68611 0.52648 0.68125 0.53712 C 0.67951 0.54082 0.6776 0.54476 0.67535 0.54776 C 0.67413 0.54961 0.67292 0.551 0.67187 0.55285 C 0.66632 0.56303 0.66493 0.56396 0.6566 0.56835 C 0.64896 0.5783 0.64983 0.5783 0.6401 0.58084 C 0.6309 0.58709 0.6191 0.59703 0.60955 0.59958 C 0.60694 0.60189 0.60521 0.60582 0.60243 0.60768 C 0.59184 0.61508 0.58351 0.613 0.57066 0.61392 C 0.5651 0.61554 0.56163 0.6197 0.5566 0.62317 C 0.5533 0.62988 0.54983 0.63659 0.54722 0.64376 C 0.54462 0.65047 0.54739 0.64631 0.54479 0.65001 E">
                                      <p:cBhvr>
                                        <p:cTn id="272" dur="3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74" nodeType="after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27 -0.046 -0.16655 -0.113 -0.17188 C -0.177 -0.17854 -0.237 -0.11858 -0.241 -0.03198 C -0.246 0.04797 -0.204 0.12258 -0.144 0.12791 C -0.089 0.13191 -0.037 0.08261 -0.033 0.00799 C -0.029 -0.05996 -0.064 -0.12391 -0.115 -0.12924 C -0.162 -0.13324 -0.206 -0.09194 -0.209 -0.02931 C -0.212 0.02665 -0.184 0.08128 -0.142 0.08394 C -0.104 0.08794 -0.068 0.05596 -0.065 0.00533 C -0.063 -0.03997 -0.084 -0.08394 -0.117 -0.08661 C -0.146 -0.08927 -0.175 -0.06529 -0.177 -0.02665 C -0.179 0.00666 -0.164 0.03864 -0.14 0.0413 C -0.12 0.04397 -0.099 0.02931 -0.098 0.00266 C -0.096 -0.01865 -0.104 -0.0413 -0.119 -0.04397 C -0.131 -0.04397 -0.143 -0.03864 -0.145 -0.02398 C -0.146 -0.01466 -0.144 -0.00533 -0.138 -0.00133 C -0.135 0 -0.133 0 -0.13 -0.00133 E">
                                      <p:cBhvr>
                                        <p:cTn id="275" dur="3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77" nodeType="after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 0.01066 0.017 0.02132 0.021 0.03464 C 0.025 0.0493 0.027 0.06662 0.029 0.08394 C 0.031 0.10126 0.029 0.11592 0.027 0.13191 C 0.025 0.14656 0.022 0.16255 0.015 0.17588 C 0.009 0.1892 -0.001 0.19986 -0.012 0.20786 C -0.022 0.21585 -0.034 0.22118 -0.046 0.22384 C -0.058 0.22651 -0.07 0.22651 -0.081 0.22384 C -0.093 0.22118 -0.104 0.21452 -0.113 0.20386 C -0.122 0.19453 -0.13 0.18254 -0.134 0.16788 C -0.139 0.15456 -0.141 0.13591 -0.141 0.12125 C -0.142 0.10659 -0.141 0.08927 -0.136 0.07461 C -0.131 0.06129 -0.122 0.05063 -0.11 0.0453 C -0.098 0.0413 -0.086 0.04663 -0.078 0.05596 C -0.071 0.06529 -0.066 0.07994 -0.065 0.09727 C -0.065 0.11459 -0.066 0.13058 -0.071 0.1439 C -0.076 0.15722 -0.075 0.15989 -0.095 0.17721 C -0.113 0.19586 -0.131 0.19053 -0.142 0.19187 C -0.153 0.19187 -0.162 0.18654 -0.173 0.18121 C -0.185 0.17455 -0.195 0.16255 -0.202 0.15189 C -0.209 0.14124 -0.212 0.12791 -0.216 0.10659 C -0.219 0.08527 -0.219 0.07461 -0.219 0.05863 C -0.219 0.04264 -0.219 0.02665 -0.219 0.01066 E">
                                      <p:cBhvr>
                                        <p:cTn id="278" dur="3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2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889 -0.09299 C 0.28629 -0.10432 0.36233 -0.08721 0.31407 -0.10108 C 0.27761 -0.11173 0.22136 -0.12144 0.18056 -0.13046 C 0.16598 -0.13763 0.14479 -0.14226 0.1316 -0.14966 C 0.11997 -0.15637 0.11563 -0.16447 0.10174 -0.17071 C 0.08559 -0.17788 0.06372 -0.18205 0.04688 -0.18875 C 0.02865 -0.19593 0.02726 -0.20448 0.00243 -0.20981 C -0.0092 -0.22715 0.00903 -0.20541 -0.01718 -0.22091 C -0.0283 -0.22762 -0.03628 -0.23803 -0.04201 -0.24543 C -0.05521 -0.26162 -0.05885 -0.28105 -0.08593 -0.29563 C -0.09166 -0.30974 -0.10625 -0.32246 -0.12083 -0.33587 C -0.13541 -0.37381 -0.12968 -0.4092 -0.12604 -0.44783 C -0.12378 -0.46912 -0.12604 -0.49364 -0.11076 -0.51445 C -0.10781 -0.51769 -0.09896 -0.52047 -0.096 -0.52394 C -0.07569 -0.54753 -0.05451 -0.56905 -0.01718 -0.59033 C -0.00191 -0.59889 0.0316 -0.60675 0.05712 -0.61138 C 0.10469 -0.62063 0.03525 -0.60837 0.08716 -0.61947 C 0.09948 -0.62225 0.11407 -0.62341 0.12657 -0.62595 C 0.15868 -0.63266 0.1908 -0.64099 0.22066 -0.64862 C 0.24479 -0.65487 0.26875 -0.65787 0.29445 -0.66343 C 0.3257 -0.67013 0.32431 -0.66273 0.32431 -0.66805 E">
                                      <p:cBhvr>
                                        <p:cTn id="281" dur="3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283" nodeType="after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29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3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301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0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04" dur="3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307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316" nodeType="after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" dur="3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323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Число имен прилагательных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4360" y="141300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ЕДИНСТВЕННО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067280" y="1413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МНОЖЕСТВЕННО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3" name="Picture 5" descr="mel_and_butterfly_sx"/>
          <p:cNvPicPr/>
          <p:nvPr/>
        </p:nvPicPr>
        <p:blipFill>
          <a:blip r:embed="rId1"/>
          <a:stretch/>
        </p:blipFill>
        <p:spPr>
          <a:xfrm>
            <a:off x="468360" y="515772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sisters_walking_sx"/>
          <p:cNvPicPr/>
          <p:nvPr/>
        </p:nvPicPr>
        <p:blipFill>
          <a:blip r:embed="rId2"/>
          <a:stretch/>
        </p:blipFill>
        <p:spPr>
          <a:xfrm>
            <a:off x="6156360" y="501336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shiney_goldfish_swimm_a_sx"/>
          <p:cNvPicPr/>
          <p:nvPr/>
        </p:nvPicPr>
        <p:blipFill>
          <a:blip r:embed="rId3"/>
          <a:stretch/>
        </p:blipFill>
        <p:spPr>
          <a:xfrm>
            <a:off x="468360" y="299736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1" descr="school_of_goldfish_sx"/>
          <p:cNvPicPr/>
          <p:nvPr/>
        </p:nvPicPr>
        <p:blipFill>
          <a:blip r:embed="rId4"/>
          <a:stretch/>
        </p:blipFill>
        <p:spPr>
          <a:xfrm>
            <a:off x="6156360" y="292428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2" descr="баблочка"/>
          <p:cNvPicPr/>
          <p:nvPr/>
        </p:nvPicPr>
        <p:blipFill>
          <a:blip r:embed="rId5"/>
          <a:stretch/>
        </p:blipFill>
        <p:spPr>
          <a:xfrm>
            <a:off x="468360" y="1844640"/>
            <a:ext cx="1247760" cy="11527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3" descr="бабочки"/>
          <p:cNvPicPr/>
          <p:nvPr/>
        </p:nvPicPr>
        <p:blipFill>
          <a:blip r:embed="rId6"/>
          <a:stretch/>
        </p:blipFill>
        <p:spPr>
          <a:xfrm>
            <a:off x="5796000" y="1844640"/>
            <a:ext cx="1136520" cy="10396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4" descr="котята"/>
          <p:cNvPicPr/>
          <p:nvPr/>
        </p:nvPicPr>
        <p:blipFill>
          <a:blip r:embed="rId7"/>
          <a:stretch/>
        </p:blipFill>
        <p:spPr>
          <a:xfrm>
            <a:off x="6012000" y="3789360"/>
            <a:ext cx="876240" cy="720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6" descr="котенок2"/>
          <p:cNvPicPr/>
          <p:nvPr/>
        </p:nvPicPr>
        <p:blipFill>
          <a:blip r:embed="rId8"/>
          <a:stretch/>
        </p:blipFill>
        <p:spPr>
          <a:xfrm>
            <a:off x="395280" y="4005360"/>
            <a:ext cx="936720" cy="7920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17"/>
          <p:cNvSpPr/>
          <p:nvPr/>
        </p:nvSpPr>
        <p:spPr>
          <a:xfrm>
            <a:off x="2627280" y="2276640"/>
            <a:ext cx="9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2484360" y="2349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бабочк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2556000" y="3141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рыбк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2484360" y="407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отено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2340000" y="5229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девочк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4643280" y="23493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бабочк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Text Box 23"/>
          <p:cNvSpPr/>
          <p:nvPr/>
        </p:nvSpPr>
        <p:spPr>
          <a:xfrm>
            <a:off x="4788000" y="306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рыбк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Text Box 24"/>
          <p:cNvSpPr/>
          <p:nvPr/>
        </p:nvSpPr>
        <p:spPr>
          <a:xfrm>
            <a:off x="4716360" y="407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отят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Text Box 25"/>
          <p:cNvSpPr/>
          <p:nvPr/>
        </p:nvSpPr>
        <p:spPr>
          <a:xfrm>
            <a:off x="4788000" y="5157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девочк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WordArt 26"/>
          <p:cNvSpPr txBox="1"/>
          <p:nvPr/>
        </p:nvSpPr>
        <p:spPr>
          <a:xfrm>
            <a:off x="1332000" y="2276640"/>
            <a:ext cx="876240" cy="4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рка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журна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1" name="WordArt 27"/>
          <p:cNvSpPr txBox="1"/>
          <p:nvPr/>
        </p:nvSpPr>
        <p:spPr>
          <a:xfrm>
            <a:off x="1332000" y="3141720"/>
            <a:ext cx="1008000" cy="52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олота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асива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2" name="WordArt 28"/>
          <p:cNvSpPr txBox="1"/>
          <p:nvPr/>
        </p:nvSpPr>
        <p:spPr>
          <a:xfrm>
            <a:off x="1258920" y="4076640"/>
            <a:ext cx="128268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ушисты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звы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3" name="WordArt 29"/>
          <p:cNvSpPr txBox="1"/>
          <p:nvPr/>
        </p:nvSpPr>
        <p:spPr>
          <a:xfrm>
            <a:off x="1476360" y="5229360"/>
            <a:ext cx="792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села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зорна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4" name="WordArt 31"/>
          <p:cNvSpPr txBox="1"/>
          <p:nvPr/>
        </p:nvSpPr>
        <p:spPr>
          <a:xfrm>
            <a:off x="3635280" y="2205000"/>
            <a:ext cx="876240" cy="4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рк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журн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5" name="WordArt 32"/>
          <p:cNvSpPr txBox="1"/>
          <p:nvPr/>
        </p:nvSpPr>
        <p:spPr>
          <a:xfrm>
            <a:off x="3564000" y="3068640"/>
            <a:ext cx="100800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олот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асив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6" name="WordArt 33"/>
          <p:cNvSpPr txBox="1"/>
          <p:nvPr/>
        </p:nvSpPr>
        <p:spPr>
          <a:xfrm>
            <a:off x="3492360" y="4076640"/>
            <a:ext cx="128268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ушист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зв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7" name="WordArt 34"/>
          <p:cNvSpPr txBox="1"/>
          <p:nvPr/>
        </p:nvSpPr>
        <p:spPr>
          <a:xfrm>
            <a:off x="3851280" y="5229360"/>
            <a:ext cx="792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сел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зорн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Род имен прилагательных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09" name="Picture 7" descr="clown_bukett"/>
          <p:cNvPicPr/>
          <p:nvPr/>
        </p:nvPicPr>
        <p:blipFill>
          <a:blip r:embed="rId2"/>
          <a:stretch/>
        </p:blipFill>
        <p:spPr>
          <a:xfrm>
            <a:off x="0" y="1413000"/>
            <a:ext cx="1905120" cy="185076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5"/>
          <p:cNvSpPr/>
          <p:nvPr/>
        </p:nvSpPr>
        <p:spPr>
          <a:xfrm>
            <a:off x="1835280" y="1773360"/>
            <a:ext cx="1295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Какой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ВеселыйСмешно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2f1311"/>
                </a:solidFill>
                <a:uFillTx/>
                <a:latin typeface="Arial"/>
              </a:rPr>
              <a:t>Муж.род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5148360" y="1844640"/>
            <a:ext cx="1511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Какая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Нарядная Пушиста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2f1311"/>
                </a:solidFill>
                <a:uFillTx/>
                <a:latin typeface="Arial"/>
              </a:rPr>
              <a:t>Жен.род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2" name="Picture 8" descr="солнце"/>
          <p:cNvPicPr/>
          <p:nvPr/>
        </p:nvPicPr>
        <p:blipFill>
          <a:blip r:embed="rId3"/>
          <a:stretch/>
        </p:blipFill>
        <p:spPr>
          <a:xfrm>
            <a:off x="2050920" y="4221000"/>
            <a:ext cx="1812960" cy="160668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9"/>
          <p:cNvSpPr/>
          <p:nvPr/>
        </p:nvSpPr>
        <p:spPr>
          <a:xfrm>
            <a:off x="3995640" y="4221000"/>
            <a:ext cx="1656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Какое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Теплое Ласково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2f1311"/>
                </a:solidFill>
                <a:uFillTx/>
                <a:latin typeface="Arial"/>
              </a:rPr>
              <a:t>Сред.род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4" name="Picture 11" descr="elka[1]"/>
          <p:cNvPicPr/>
          <p:nvPr/>
        </p:nvPicPr>
        <p:blipFill>
          <a:blip r:embed="rId4"/>
          <a:stretch/>
        </p:blipFill>
        <p:spPr>
          <a:xfrm>
            <a:off x="3708360" y="1341360"/>
            <a:ext cx="14400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дберите имена прилагательные к следующим именам существительным. Определите род и число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16" name="Picture 4" descr="щенок"/>
          <p:cNvPicPr/>
          <p:nvPr/>
        </p:nvPicPr>
        <p:blipFill>
          <a:blip r:embed="rId1"/>
          <a:stretch/>
        </p:blipFill>
        <p:spPr>
          <a:xfrm>
            <a:off x="250920" y="2205000"/>
            <a:ext cx="1333440" cy="106668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5"/>
          <p:cNvSpPr/>
          <p:nvPr/>
        </p:nvSpPr>
        <p:spPr>
          <a:xfrm>
            <a:off x="1258920" y="256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даро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8" name="Picture 6" descr="Роза"/>
          <p:cNvPicPr/>
          <p:nvPr/>
        </p:nvPicPr>
        <p:blipFill>
          <a:blip r:embed="rId2"/>
          <a:stretch/>
        </p:blipFill>
        <p:spPr>
          <a:xfrm>
            <a:off x="2987640" y="2205000"/>
            <a:ext cx="866880" cy="124776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7"/>
          <p:cNvSpPr/>
          <p:nvPr/>
        </p:nvSpPr>
        <p:spPr>
          <a:xfrm>
            <a:off x="3708360" y="256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Роз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0" name="Picture 8" descr="elefant-0018"/>
          <p:cNvPicPr/>
          <p:nvPr/>
        </p:nvPicPr>
        <p:blipFill>
          <a:blip r:embed="rId3"/>
          <a:stretch/>
        </p:blipFill>
        <p:spPr>
          <a:xfrm>
            <a:off x="5292720" y="2421000"/>
            <a:ext cx="1081080" cy="8636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9"/>
          <p:cNvSpPr/>
          <p:nvPr/>
        </p:nvSpPr>
        <p:spPr>
          <a:xfrm>
            <a:off x="6372360" y="2565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лон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2" name="Picture 10" descr="звезды"/>
          <p:cNvPicPr/>
          <p:nvPr/>
        </p:nvPicPr>
        <p:blipFill>
          <a:blip r:embed="rId4"/>
          <a:stretch/>
        </p:blipFill>
        <p:spPr>
          <a:xfrm>
            <a:off x="179280" y="3860640"/>
            <a:ext cx="1308240" cy="111312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11"/>
          <p:cNvSpPr/>
          <p:nvPr/>
        </p:nvSpPr>
        <p:spPr>
          <a:xfrm>
            <a:off x="1258920" y="4149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везды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4" name="Picture 13" descr="Photo 011"/>
          <p:cNvPicPr/>
          <p:nvPr/>
        </p:nvPicPr>
        <p:blipFill>
          <a:blip r:embed="rId5"/>
          <a:stretch/>
        </p:blipFill>
        <p:spPr>
          <a:xfrm>
            <a:off x="2916360" y="3716280"/>
            <a:ext cx="1228680" cy="135252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14"/>
          <p:cNvSpPr/>
          <p:nvPr/>
        </p:nvSpPr>
        <p:spPr>
          <a:xfrm>
            <a:off x="4067280" y="4221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Торт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6" name="Picture 15" descr="кольцо"/>
          <p:cNvPicPr/>
          <p:nvPr/>
        </p:nvPicPr>
        <p:blipFill>
          <a:blip r:embed="rId6"/>
          <a:stretch/>
        </p:blipFill>
        <p:spPr>
          <a:xfrm>
            <a:off x="5292720" y="3860640"/>
            <a:ext cx="1225440" cy="8636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16"/>
          <p:cNvSpPr/>
          <p:nvPr/>
        </p:nvSpPr>
        <p:spPr>
          <a:xfrm>
            <a:off x="6300720" y="4221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ольц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8" name="Picture 17" descr="привидение"/>
          <p:cNvPicPr/>
          <p:nvPr/>
        </p:nvPicPr>
        <p:blipFill>
          <a:blip r:embed="rId7"/>
          <a:stretch/>
        </p:blipFill>
        <p:spPr>
          <a:xfrm>
            <a:off x="3203640" y="5300640"/>
            <a:ext cx="887400" cy="11113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18"/>
          <p:cNvSpPr/>
          <p:nvPr/>
        </p:nvSpPr>
        <p:spPr>
          <a:xfrm>
            <a:off x="3924360" y="5589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ривидени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0" name="Picture 20" descr="шары"/>
          <p:cNvPicPr/>
          <p:nvPr/>
        </p:nvPicPr>
        <p:blipFill>
          <a:blip r:embed="rId8"/>
          <a:stretch/>
        </p:blipFill>
        <p:spPr>
          <a:xfrm>
            <a:off x="5580000" y="5229360"/>
            <a:ext cx="714600" cy="119052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21"/>
          <p:cNvSpPr/>
          <p:nvPr/>
        </p:nvSpPr>
        <p:spPr>
          <a:xfrm>
            <a:off x="6372360" y="5589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Шары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2" name="Picture 22" descr="лошадь"/>
          <p:cNvPicPr/>
          <p:nvPr/>
        </p:nvPicPr>
        <p:blipFill>
          <a:blip r:embed="rId9"/>
          <a:stretch/>
        </p:blipFill>
        <p:spPr>
          <a:xfrm>
            <a:off x="179280" y="5229360"/>
            <a:ext cx="1524240" cy="11239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23"/>
          <p:cNvSpPr/>
          <p:nvPr/>
        </p:nvSpPr>
        <p:spPr>
          <a:xfrm>
            <a:off x="1763640" y="5661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Лошад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Group 8"/>
          <p:cNvGrpSpPr/>
          <p:nvPr/>
        </p:nvGrpSpPr>
        <p:grpSpPr>
          <a:xfrm>
            <a:off x="324000" y="1052640"/>
            <a:ext cx="7314840" cy="2057040"/>
            <a:chOff x="324000" y="1052640"/>
            <a:chExt cx="7314840" cy="2057040"/>
          </a:xfrm>
        </p:grpSpPr>
        <p:pic>
          <p:nvPicPr>
            <p:cNvPr id="335" name="Picture 9" descr="baby18[1]"/>
            <p:cNvPicPr/>
            <p:nvPr/>
          </p:nvPicPr>
          <p:blipFill>
            <a:blip r:embed="rId1"/>
            <a:stretch/>
          </p:blipFill>
          <p:spPr>
            <a:xfrm>
              <a:off x="324000" y="1299240"/>
              <a:ext cx="1067400" cy="18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Text Box 10"/>
            <p:cNvSpPr/>
            <p:nvPr/>
          </p:nvSpPr>
          <p:spPr>
            <a:xfrm>
              <a:off x="1858680" y="1052640"/>
              <a:ext cx="5780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37" name="Text Box 7"/>
          <p:cNvSpPr/>
          <p:nvPr/>
        </p:nvSpPr>
        <p:spPr>
          <a:xfrm>
            <a:off x="2700360" y="26028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2f1311"/>
                </a:solidFill>
                <a:uFillTx/>
                <a:latin typeface="Arial"/>
              </a:rPr>
              <a:t>Исследовани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8" name="AutoShape 8"/>
          <p:cNvSpPr/>
          <p:nvPr/>
        </p:nvSpPr>
        <p:spPr>
          <a:xfrm>
            <a:off x="1403280" y="476280"/>
            <a:ext cx="1944720" cy="10810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9" name="Picture 10" descr="вопрос"/>
          <p:cNvPicPr/>
          <p:nvPr/>
        </p:nvPicPr>
        <p:blipFill>
          <a:blip r:embed="rId2"/>
          <a:stretch/>
        </p:blipFill>
        <p:spPr>
          <a:xfrm>
            <a:off x="2124000" y="620640"/>
            <a:ext cx="593640" cy="7207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12"/>
          <p:cNvSpPr/>
          <p:nvPr/>
        </p:nvSpPr>
        <p:spPr>
          <a:xfrm>
            <a:off x="2124000" y="1557360"/>
            <a:ext cx="54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Что общего у имени прилагательного с именем существительным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2124000" y="2637000"/>
            <a:ext cx="54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Какие грамматические признаки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у них общие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2" name="AutoShape 15"/>
          <p:cNvSpPr/>
          <p:nvPr/>
        </p:nvSpPr>
        <p:spPr>
          <a:xfrm>
            <a:off x="108000" y="3645000"/>
            <a:ext cx="1439640" cy="8636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3" name="AutoShape 16"/>
          <p:cNvSpPr/>
          <p:nvPr/>
        </p:nvSpPr>
        <p:spPr>
          <a:xfrm>
            <a:off x="1692360" y="3645000"/>
            <a:ext cx="1439640" cy="8636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4" name="AutoShape 17"/>
          <p:cNvSpPr/>
          <p:nvPr/>
        </p:nvSpPr>
        <p:spPr>
          <a:xfrm>
            <a:off x="3276720" y="3645000"/>
            <a:ext cx="1366560" cy="8636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5" name="AutoShape 18"/>
          <p:cNvSpPr/>
          <p:nvPr/>
        </p:nvSpPr>
        <p:spPr>
          <a:xfrm>
            <a:off x="4788000" y="3645000"/>
            <a:ext cx="1368360" cy="8636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6" name="AutoShape 19"/>
          <p:cNvSpPr/>
          <p:nvPr/>
        </p:nvSpPr>
        <p:spPr>
          <a:xfrm>
            <a:off x="6300720" y="3645000"/>
            <a:ext cx="1440000" cy="8636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" name="Text Box 20"/>
          <p:cNvSpPr/>
          <p:nvPr/>
        </p:nvSpPr>
        <p:spPr>
          <a:xfrm>
            <a:off x="179280" y="3716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Трав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елен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а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8" name="Text Box 22"/>
          <p:cNvSpPr/>
          <p:nvPr/>
        </p:nvSpPr>
        <p:spPr>
          <a:xfrm>
            <a:off x="1763640" y="3716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Лес густ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о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9" name="Text Box 24"/>
          <p:cNvSpPr/>
          <p:nvPr/>
        </p:nvSpPr>
        <p:spPr>
          <a:xfrm>
            <a:off x="3348000" y="3716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л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широк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о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0" name="Text Box 25"/>
          <p:cNvSpPr/>
          <p:nvPr/>
        </p:nvSpPr>
        <p:spPr>
          <a:xfrm>
            <a:off x="4859280" y="3789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Цвет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ы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ярк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и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1" name="Text Box 27"/>
          <p:cNvSpPr/>
          <p:nvPr/>
        </p:nvSpPr>
        <p:spPr>
          <a:xfrm>
            <a:off x="6372360" y="3789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ниг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ой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интересн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о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AutoShape 28"/>
          <p:cNvSpPr/>
          <p:nvPr/>
        </p:nvSpPr>
        <p:spPr>
          <a:xfrm rot="16200000">
            <a:off x="2232000" y="2600280"/>
            <a:ext cx="358560" cy="4464000"/>
          </a:xfrm>
          <a:custGeom>
            <a:avLst/>
            <a:gdLst>
              <a:gd name="textAreaLeft" fmla="*/ 228960 w 358560"/>
              <a:gd name="textAreaRight" fmla="*/ 358560 w 358560"/>
              <a:gd name="textAreaTop" fmla="*/ 116280 h 4464000"/>
              <a:gd name="textAreaBottom" fmla="*/ 4347720 h 44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65"/>
                </a:lnTo>
                <a:cubicBezTo>
                  <a:pt x="10800" y="9765"/>
                  <a:pt x="5400" y="10665"/>
                  <a:pt x="0" y="10665"/>
                </a:cubicBezTo>
                <a:cubicBezTo>
                  <a:pt x="5400" y="10665"/>
                  <a:pt x="10800" y="11565"/>
                  <a:pt x="10800" y="1246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3" name="AutoShape 29"/>
          <p:cNvSpPr/>
          <p:nvPr/>
        </p:nvSpPr>
        <p:spPr>
          <a:xfrm rot="16200000">
            <a:off x="5329080" y="4111560"/>
            <a:ext cx="285840" cy="1368360"/>
          </a:xfrm>
          <a:custGeom>
            <a:avLst/>
            <a:gdLst>
              <a:gd name="textAreaLeft" fmla="*/ 182520 w 285840"/>
              <a:gd name="textAreaRight" fmla="*/ 286200 w 2858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65"/>
                </a:lnTo>
                <a:cubicBezTo>
                  <a:pt x="10800" y="9765"/>
                  <a:pt x="5400" y="10665"/>
                  <a:pt x="0" y="10665"/>
                </a:cubicBezTo>
                <a:cubicBezTo>
                  <a:pt x="5400" y="10665"/>
                  <a:pt x="10800" y="11565"/>
                  <a:pt x="10800" y="1246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" name="AutoShape 30"/>
          <p:cNvSpPr/>
          <p:nvPr/>
        </p:nvSpPr>
        <p:spPr>
          <a:xfrm rot="16200000">
            <a:off x="6841800" y="4111560"/>
            <a:ext cx="285840" cy="1368360"/>
          </a:xfrm>
          <a:custGeom>
            <a:avLst/>
            <a:gdLst>
              <a:gd name="textAreaLeft" fmla="*/ 182520 w 285840"/>
              <a:gd name="textAreaRight" fmla="*/ 286200 w 2858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65"/>
                </a:lnTo>
                <a:cubicBezTo>
                  <a:pt x="10800" y="9765"/>
                  <a:pt x="5400" y="10665"/>
                  <a:pt x="0" y="10665"/>
                </a:cubicBezTo>
                <a:cubicBezTo>
                  <a:pt x="5400" y="10665"/>
                  <a:pt x="10800" y="11565"/>
                  <a:pt x="10800" y="1246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5" name="Text Box 31"/>
          <p:cNvSpPr/>
          <p:nvPr/>
        </p:nvSpPr>
        <p:spPr>
          <a:xfrm>
            <a:off x="1547640" y="50133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РОД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6" name="Text Box 32"/>
          <p:cNvSpPr/>
          <p:nvPr/>
        </p:nvSpPr>
        <p:spPr>
          <a:xfrm>
            <a:off x="4788000" y="5013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7" name="Text Box 33"/>
          <p:cNvSpPr/>
          <p:nvPr/>
        </p:nvSpPr>
        <p:spPr>
          <a:xfrm>
            <a:off x="6372360" y="5013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АДЕЖ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8" name="Text Box 34"/>
          <p:cNvSpPr/>
          <p:nvPr/>
        </p:nvSpPr>
        <p:spPr>
          <a:xfrm>
            <a:off x="468360" y="5734080"/>
            <a:ext cx="70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Почему в тексте имя прилагательное и имя существительное всегда вместе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9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9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9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4"/>
          <p:cNvSpPr/>
          <p:nvPr/>
        </p:nvSpPr>
        <p:spPr>
          <a:xfrm>
            <a:off x="324000" y="476280"/>
            <a:ext cx="2879640" cy="1584360"/>
          </a:xfrm>
          <a:prstGeom prst="downArrowCallout">
            <a:avLst>
              <a:gd name="adj1" fmla="val 45443"/>
              <a:gd name="adj2" fmla="val 45439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395280" y="549360"/>
            <a:ext cx="26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ИМ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УЩЕСТВИТЕЛЬНО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" name="AutoShape 6"/>
          <p:cNvSpPr/>
          <p:nvPr/>
        </p:nvSpPr>
        <p:spPr>
          <a:xfrm>
            <a:off x="4356000" y="476280"/>
            <a:ext cx="2880000" cy="1584360"/>
          </a:xfrm>
          <a:prstGeom prst="downArrowCallout">
            <a:avLst>
              <a:gd name="adj1" fmla="val 45448"/>
              <a:gd name="adj2" fmla="val 45444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4427640" y="620640"/>
            <a:ext cx="266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ИМ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РИЛАГАТЕЛЬНО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3" name="AutoShape 9"/>
          <p:cNvSpPr/>
          <p:nvPr/>
        </p:nvSpPr>
        <p:spPr>
          <a:xfrm>
            <a:off x="395280" y="2205000"/>
            <a:ext cx="2736720" cy="12240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4" name="AutoShape 10"/>
          <p:cNvSpPr/>
          <p:nvPr/>
        </p:nvSpPr>
        <p:spPr>
          <a:xfrm>
            <a:off x="4427640" y="2205000"/>
            <a:ext cx="2736720" cy="12240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539640" y="234936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ОБОЗНАЧАЕТ 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ПРЕДМЕТ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4572000" y="234936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ОБОЗНАЧАЕТ 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ПРИЗНАК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РЕДМЕТ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7" name="AutoShape 13"/>
          <p:cNvSpPr/>
          <p:nvPr/>
        </p:nvSpPr>
        <p:spPr>
          <a:xfrm rot="10800000">
            <a:off x="3203280" y="2492280"/>
            <a:ext cx="1150920" cy="720720"/>
          </a:xfrm>
          <a:custGeom>
            <a:avLst/>
            <a:gdLst>
              <a:gd name="textAreaLeft" fmla="*/ 179640 w 1150920"/>
              <a:gd name="textAreaRight" fmla="*/ 1007280 w 11509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8" name="Text Box 15"/>
          <p:cNvSpPr/>
          <p:nvPr/>
        </p:nvSpPr>
        <p:spPr>
          <a:xfrm>
            <a:off x="250920" y="4508640"/>
            <a:ext cx="73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мя прилагательное неразрывно связано с именем существительным и используется для его уточнен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9" name="Text Box 17"/>
          <p:cNvSpPr/>
          <p:nvPr/>
        </p:nvSpPr>
        <p:spPr>
          <a:xfrm>
            <a:off x="1908000" y="378936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ВЫВОД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6"/>
          <p:cNvSpPr/>
          <p:nvPr/>
        </p:nvSpPr>
        <p:spPr>
          <a:xfrm>
            <a:off x="1619280" y="407664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7" descr="ФОН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WordArt 8"/>
          <p:cNvSpPr txBox="1"/>
          <p:nvPr/>
        </p:nvSpPr>
        <p:spPr>
          <a:xfrm>
            <a:off x="395280" y="3716280"/>
            <a:ext cx="835344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МЯ ПРИЛАГАТЕЛЬНО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1413000"/>
            <a:ext cx="8066160" cy="20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Arial"/>
              </a:rPr>
              <a:t>Самая красочная часть реч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WordArt 4"/>
          <p:cNvSpPr txBox="1"/>
          <p:nvPr/>
        </p:nvSpPr>
        <p:spPr>
          <a:xfrm>
            <a:off x="900000" y="2133720"/>
            <a:ext cx="5905440" cy="107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ФИЗКУЛЬТ. МИНУТКА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371" name="Picture 5" descr="физкульт минутка"/>
          <p:cNvPicPr/>
          <p:nvPr/>
        </p:nvPicPr>
        <p:blipFill>
          <a:blip r:embed="rId1"/>
          <a:stretch/>
        </p:blipFill>
        <p:spPr>
          <a:xfrm>
            <a:off x="2484360" y="2637000"/>
            <a:ext cx="30099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6"/>
          <p:cNvSpPr/>
          <p:nvPr/>
        </p:nvSpPr>
        <p:spPr>
          <a:xfrm>
            <a:off x="324000" y="549360"/>
            <a:ext cx="698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Отгадываем загадки, находим имена прилагательные и повторяем движения персонажей!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539640" y="2060640"/>
            <a:ext cx="259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 реках Африки живет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c82b"/>
                </a:solidFill>
                <a:latin typeface="Arial"/>
              </a:rPr>
              <a:t>Злой зеленый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пароход!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то б навстречу ни поплыл -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сех проглотит ..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4" name="Rectangle 10"/>
          <p:cNvSpPr/>
          <p:nvPr/>
        </p:nvSpPr>
        <p:spPr>
          <a:xfrm>
            <a:off x="3348000" y="2133720"/>
            <a:ext cx="379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 Антарктиде среди льдов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Ходит в фраке день деньской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рылья есть, но не летает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Лихо в прорубь он ныряет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Очень 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важный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господин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еменит сюда..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75" name="Picture 1" descr="http://www.gifpark.ru/Gifs/ANIMALS/ani-penguin_dancing.gif"/>
          <p:cNvPicPr/>
          <p:nvPr/>
        </p:nvPicPr>
        <p:blipFill>
          <a:blip r:embed="rId1"/>
          <a:stretch/>
        </p:blipFill>
        <p:spPr>
          <a:xfrm>
            <a:off x="4500720" y="3860640"/>
            <a:ext cx="1714320" cy="2214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http://gsmnet.ru/anime/a23.gif"/>
          <p:cNvPicPr/>
          <p:nvPr/>
        </p:nvPicPr>
        <p:blipFill>
          <a:blip r:embed="rId2"/>
          <a:stretch/>
        </p:blipFill>
        <p:spPr>
          <a:xfrm>
            <a:off x="900000" y="3789360"/>
            <a:ext cx="17146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4"/>
          <p:cNvSpPr/>
          <p:nvPr/>
        </p:nvSpPr>
        <p:spPr>
          <a:xfrm>
            <a:off x="468360" y="476280"/>
            <a:ext cx="329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явился во двор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Он в 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холодном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декабре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Неуклюжий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смешно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 катка стоит с метлой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 ветру 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зимнему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привы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Наш приятель…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78" name="Picture 1" descr="http://www.gifpark.ru/Gifs/HOLYDAYS/NEW_YEAR/126.gif"/>
          <p:cNvPicPr/>
          <p:nvPr/>
        </p:nvPicPr>
        <p:blipFill>
          <a:blip r:embed="rId1"/>
          <a:stretch/>
        </p:blipFill>
        <p:spPr>
          <a:xfrm>
            <a:off x="1042920" y="1844640"/>
            <a:ext cx="1785960" cy="250020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6"/>
          <p:cNvSpPr/>
          <p:nvPr/>
        </p:nvSpPr>
        <p:spPr>
          <a:xfrm>
            <a:off x="3851280" y="549360"/>
            <a:ext cx="343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 подполье, в каморк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Живет она в норке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c82b"/>
                </a:solidFill>
                <a:latin typeface="Arial"/>
              </a:rPr>
              <a:t>Серая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малышка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то же это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80" name="Picture 2" descr="http://gsmnet.ru/anime/anime/a004.gif"/>
          <p:cNvPicPr/>
          <p:nvPr/>
        </p:nvPicPr>
        <p:blipFill>
          <a:blip r:embed="rId2"/>
          <a:stretch/>
        </p:blipFill>
        <p:spPr>
          <a:xfrm>
            <a:off x="4067280" y="765000"/>
            <a:ext cx="3286080" cy="342900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8"/>
          <p:cNvSpPr/>
          <p:nvPr/>
        </p:nvSpPr>
        <p:spPr>
          <a:xfrm>
            <a:off x="1476000" y="4076640"/>
            <a:ext cx="507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Я придумал вот как ловко: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 меня своя уловка. Есть кладовка за щекой!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от я 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умненький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какой!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82" name="Picture 2" descr="http://fantasyflash.ru/anime/hamster/image/homa38.gif"/>
          <p:cNvPicPr/>
          <p:nvPr/>
        </p:nvPicPr>
        <p:blipFill>
          <a:blip r:embed="rId3"/>
          <a:stretch/>
        </p:blipFill>
        <p:spPr>
          <a:xfrm>
            <a:off x="3203640" y="5084640"/>
            <a:ext cx="1584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0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3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3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3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3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4"/>
          <p:cNvSpPr/>
          <p:nvPr/>
        </p:nvSpPr>
        <p:spPr>
          <a:xfrm>
            <a:off x="971640" y="549360"/>
            <a:ext cx="54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Подберите антонимы к именам прилагательным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539640" y="1700280"/>
            <a:ext cx="2737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иль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луп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уп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ихи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олст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ям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ветл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Угрюм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3564000" y="170028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[]</a:t>
            </a:r>
            <a:r>
              <a:rPr b="0" lang="ru-RU" sz="2400" spc="-1" strike="noStrike">
                <a:solidFill>
                  <a:srgbClr val="e52511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3492360" y="227664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</a:t>
            </a:r>
            <a:r>
              <a:rPr b="0" lang="ru-RU" sz="2400" spc="-1" strike="noStrike">
                <a:solidFill>
                  <a:srgbClr val="e52511"/>
                </a:solidFill>
                <a:latin typeface="Arial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3564000" y="2781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[]</a:t>
            </a:r>
            <a:r>
              <a:rPr b="0" lang="ru-RU" sz="2400" spc="-1" strike="noStrike">
                <a:solidFill>
                  <a:srgbClr val="e52511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8" name="Text Box 9"/>
          <p:cNvSpPr/>
          <p:nvPr/>
        </p:nvSpPr>
        <p:spPr>
          <a:xfrm>
            <a:off x="3564000" y="335772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[]</a:t>
            </a:r>
            <a:r>
              <a:rPr b="0" lang="ru-RU" sz="2400" spc="-1" strike="noStrike">
                <a:solidFill>
                  <a:srgbClr val="e52511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3564000" y="3860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[]</a:t>
            </a:r>
            <a:r>
              <a:rPr b="0" lang="ru-RU" sz="2400" spc="-1" strike="noStrike">
                <a:solidFill>
                  <a:srgbClr val="e52511"/>
                </a:solidFill>
                <a:latin typeface="Arial"/>
              </a:rPr>
              <a:t>н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0" name="Text Box 11"/>
          <p:cNvSpPr/>
          <p:nvPr/>
        </p:nvSpPr>
        <p:spPr>
          <a:xfrm>
            <a:off x="3564000" y="443700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[]</a:t>
            </a:r>
            <a:r>
              <a:rPr b="0" lang="ru-RU" sz="2400" spc="-1" strike="noStrike">
                <a:solidFill>
                  <a:srgbClr val="e52511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1" name="Text Box 12"/>
          <p:cNvSpPr/>
          <p:nvPr/>
        </p:nvSpPr>
        <p:spPr>
          <a:xfrm>
            <a:off x="3564000" y="5013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[]</a:t>
            </a:r>
            <a:r>
              <a:rPr b="0" lang="ru-RU" sz="2400" spc="-1" strike="noStrike">
                <a:solidFill>
                  <a:srgbClr val="e52511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2" name="Text Box 13"/>
          <p:cNvSpPr/>
          <p:nvPr/>
        </p:nvSpPr>
        <p:spPr>
          <a:xfrm>
            <a:off x="3564000" y="5516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[]</a:t>
            </a:r>
            <a:r>
              <a:rPr b="0" lang="ru-RU" sz="2400" spc="-1" strike="noStrike">
                <a:solidFill>
                  <a:srgbClr val="e52511"/>
                </a:solidFill>
                <a:latin typeface="Arial"/>
              </a:rPr>
              <a:t>ы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3" name="Text Box 14"/>
          <p:cNvSpPr/>
          <p:nvPr/>
        </p:nvSpPr>
        <p:spPr>
          <a:xfrm>
            <a:off x="3492360" y="170028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4" name="Text Box 15"/>
          <p:cNvSpPr/>
          <p:nvPr/>
        </p:nvSpPr>
        <p:spPr>
          <a:xfrm>
            <a:off x="3419640" y="2276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5" name="Text Box 16"/>
          <p:cNvSpPr/>
          <p:nvPr/>
        </p:nvSpPr>
        <p:spPr>
          <a:xfrm>
            <a:off x="3492360" y="278136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т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6" name="Text Box 17"/>
          <p:cNvSpPr/>
          <p:nvPr/>
        </p:nvSpPr>
        <p:spPr>
          <a:xfrm>
            <a:off x="3564000" y="335772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ки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7" name="Text Box 18"/>
          <p:cNvSpPr/>
          <p:nvPr/>
        </p:nvSpPr>
        <p:spPr>
          <a:xfrm>
            <a:off x="3492360" y="386064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и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8" name="Text Box 19"/>
          <p:cNvSpPr/>
          <p:nvPr/>
        </p:nvSpPr>
        <p:spPr>
          <a:xfrm>
            <a:off x="3492360" y="443700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9" name="Text Box 20"/>
          <p:cNvSpPr/>
          <p:nvPr/>
        </p:nvSpPr>
        <p:spPr>
          <a:xfrm>
            <a:off x="3492360" y="501336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м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0" name="Text Box 21"/>
          <p:cNvSpPr/>
          <p:nvPr/>
        </p:nvSpPr>
        <p:spPr>
          <a:xfrm>
            <a:off x="3780000" y="5516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л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ы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чив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4"/>
          <p:cNvSpPr/>
          <p:nvPr/>
        </p:nvSpPr>
        <p:spPr>
          <a:xfrm>
            <a:off x="971640" y="549360"/>
            <a:ext cx="54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Подберите синонимы к именам прилагательным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611280" y="1916280"/>
            <a:ext cx="2736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лав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ощ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Жарки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лин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Заниматель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Чудес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покой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кор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3708360" y="191628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3780000" y="191628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овн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5" name="Text Box 10"/>
          <p:cNvSpPr/>
          <p:nvPr/>
        </p:nvSpPr>
        <p:spPr>
          <a:xfrm>
            <a:off x="3708360" y="242100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ь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6" name="Text Box 11"/>
          <p:cNvSpPr/>
          <p:nvPr/>
        </p:nvSpPr>
        <p:spPr>
          <a:xfrm>
            <a:off x="3708360" y="2997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ойный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7" name="Text Box 12"/>
          <p:cNvSpPr/>
          <p:nvPr/>
        </p:nvSpPr>
        <p:spPr>
          <a:xfrm>
            <a:off x="3564000" y="3573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лги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8" name="Text Box 13"/>
          <p:cNvSpPr/>
          <p:nvPr/>
        </p:nvSpPr>
        <p:spPr>
          <a:xfrm>
            <a:off x="3851280" y="4076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ерес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9" name="Text Box 14"/>
          <p:cNvSpPr/>
          <p:nvPr/>
        </p:nvSpPr>
        <p:spPr>
          <a:xfrm>
            <a:off x="3635280" y="458136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0" name="Text Box 15"/>
          <p:cNvSpPr/>
          <p:nvPr/>
        </p:nvSpPr>
        <p:spPr>
          <a:xfrm>
            <a:off x="3780000" y="515772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р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1" name="Text Box 16"/>
          <p:cNvSpPr/>
          <p:nvPr/>
        </p:nvSpPr>
        <p:spPr>
          <a:xfrm>
            <a:off x="3635280" y="573408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ы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тр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2" name="Text Box 17"/>
          <p:cNvSpPr/>
          <p:nvPr/>
        </p:nvSpPr>
        <p:spPr>
          <a:xfrm>
            <a:off x="3635280" y="242100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[]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3" name="Text Box 18"/>
          <p:cNvSpPr/>
          <p:nvPr/>
        </p:nvSpPr>
        <p:spPr>
          <a:xfrm>
            <a:off x="3635280" y="299736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н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4" name="Text Box 19"/>
          <p:cNvSpPr/>
          <p:nvPr/>
        </p:nvSpPr>
        <p:spPr>
          <a:xfrm>
            <a:off x="3564000" y="3573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5" name="Text Box 20"/>
          <p:cNvSpPr/>
          <p:nvPr/>
        </p:nvSpPr>
        <p:spPr>
          <a:xfrm>
            <a:off x="3635280" y="407664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н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[][]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6" name="Text Box 21"/>
          <p:cNvSpPr/>
          <p:nvPr/>
        </p:nvSpPr>
        <p:spPr>
          <a:xfrm>
            <a:off x="3708360" y="4581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7" name="Text Box 22"/>
          <p:cNvSpPr/>
          <p:nvPr/>
        </p:nvSpPr>
        <p:spPr>
          <a:xfrm>
            <a:off x="3708360" y="515772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[]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8" name="Text Box 23"/>
          <p:cNvSpPr/>
          <p:nvPr/>
        </p:nvSpPr>
        <p:spPr>
          <a:xfrm>
            <a:off x="3708360" y="573408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ы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7665840" cy="13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Обобщение пройденного материал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738648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то такое имя прилагательное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250920" y="2421000"/>
            <a:ext cx="640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Часть речи, которая обозначает       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отвечает на вопросы          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имее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WordArt 6"/>
          <p:cNvSpPr txBox="1"/>
          <p:nvPr/>
        </p:nvSpPr>
        <p:spPr>
          <a:xfrm>
            <a:off x="5435640" y="2276640"/>
            <a:ext cx="1809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зна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дме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3" name="WordArt 7"/>
          <p:cNvSpPr txBox="1"/>
          <p:nvPr/>
        </p:nvSpPr>
        <p:spPr>
          <a:xfrm>
            <a:off x="3635280" y="2997360"/>
            <a:ext cx="3888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кой? какая? какие? чей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4" name="WordArt 8"/>
          <p:cNvSpPr txBox="1"/>
          <p:nvPr/>
        </p:nvSpPr>
        <p:spPr>
          <a:xfrm>
            <a:off x="1403280" y="3573360"/>
            <a:ext cx="273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д, число, падеж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5" name="Picture 9" descr="вопрос"/>
          <p:cNvPicPr/>
          <p:nvPr/>
        </p:nvPicPr>
        <p:blipFill>
          <a:blip r:embed="rId1"/>
          <a:stretch/>
        </p:blipFill>
        <p:spPr>
          <a:xfrm>
            <a:off x="2050920" y="3429000"/>
            <a:ext cx="525600" cy="7747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0" descr="вопрос"/>
          <p:cNvPicPr/>
          <p:nvPr/>
        </p:nvPicPr>
        <p:blipFill>
          <a:blip r:embed="rId2"/>
          <a:stretch/>
        </p:blipFill>
        <p:spPr>
          <a:xfrm>
            <a:off x="5867280" y="2276640"/>
            <a:ext cx="525600" cy="774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1" descr="вопрос"/>
          <p:cNvPicPr/>
          <p:nvPr/>
        </p:nvPicPr>
        <p:blipFill>
          <a:blip r:embed="rId3"/>
          <a:stretch/>
        </p:blipFill>
        <p:spPr>
          <a:xfrm>
            <a:off x="4211640" y="2852640"/>
            <a:ext cx="525600" cy="77472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12"/>
          <p:cNvSpPr/>
          <p:nvPr/>
        </p:nvSpPr>
        <p:spPr>
          <a:xfrm>
            <a:off x="250920" y="4508640"/>
            <a:ext cx="73864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ова роль имен прилагательных в русском языке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8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5" descr="фон крас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0" name="WordArt 7"/>
          <p:cNvSpPr txBox="1"/>
          <p:nvPr/>
        </p:nvSpPr>
        <p:spPr>
          <a:xfrm>
            <a:off x="1403280" y="2276640"/>
            <a:ext cx="5472360" cy="14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ким был урок?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1" name="WordArt 8"/>
          <p:cNvSpPr txBox="1"/>
          <p:nvPr/>
        </p:nvSpPr>
        <p:spPr>
          <a:xfrm>
            <a:off x="324000" y="981000"/>
            <a:ext cx="244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ым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2" name="WordArt 9"/>
          <p:cNvSpPr txBox="1"/>
          <p:nvPr/>
        </p:nvSpPr>
        <p:spPr>
          <a:xfrm>
            <a:off x="3203640" y="981000"/>
            <a:ext cx="2676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сыщенным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3" name="WordArt 10"/>
          <p:cNvSpPr txBox="1"/>
          <p:nvPr/>
        </p:nvSpPr>
        <p:spPr>
          <a:xfrm>
            <a:off x="6300720" y="907920"/>
            <a:ext cx="2000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лезным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4" name="WordArt 11"/>
          <p:cNvSpPr txBox="1"/>
          <p:nvPr/>
        </p:nvSpPr>
        <p:spPr>
          <a:xfrm>
            <a:off x="611280" y="4724280"/>
            <a:ext cx="3085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нимательным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5" name="WordArt 12"/>
          <p:cNvSpPr txBox="1"/>
          <p:nvPr/>
        </p:nvSpPr>
        <p:spPr>
          <a:xfrm>
            <a:off x="4716360" y="4724280"/>
            <a:ext cx="30672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влекательным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8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WordArt 5"/>
          <p:cNvSpPr txBox="1"/>
          <p:nvPr/>
        </p:nvSpPr>
        <p:spPr>
          <a:xfrm>
            <a:off x="539640" y="2205000"/>
            <a:ext cx="698508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ПАСИБО ЗА РАБОТУ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nodeType="clickEffect" fill="hold">
                      <p:stCondLst>
                        <p:cond delay="0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24000" y="0"/>
            <a:ext cx="747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Урок-исследование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12600" y="1143000"/>
            <a:ext cx="828036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52511"/>
                </a:solidFill>
                <a:latin typeface="Arial"/>
              </a:rPr>
              <a:t>Цель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: определить место и значение имени прилагательного в русском язык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52511"/>
                </a:solidFill>
                <a:latin typeface="Arial"/>
              </a:rPr>
              <a:t>Задачи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научиться находить имена прилагательные в текст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уметь применять прилагательные в речи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развивать творческие способност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8000" y="147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Пла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360" y="1290240"/>
            <a:ext cx="78375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пределение имени прилагательног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оль имени прилагательного в русском язык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сновные грамматические признаки имени прилагательног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сследование: связь имени прилагательного с именем существительным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крепление материал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фон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4"/>
          <p:cNvSpPr/>
          <p:nvPr/>
        </p:nvSpPr>
        <p:spPr>
          <a:xfrm>
            <a:off x="4500720" y="189000"/>
            <a:ext cx="4390920" cy="24494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4859280" y="620640"/>
            <a:ext cx="3960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Определяю я предметы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Они со мной весьма приметны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Я украшаю вашу речь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Меня вам надо знать, беречь!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WordArt 16"/>
          <p:cNvSpPr txBox="1"/>
          <p:nvPr/>
        </p:nvSpPr>
        <p:spPr>
          <a:xfrm>
            <a:off x="900000" y="2781360"/>
            <a:ext cx="66214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МЯ ПРИЛАГАТЕЛЬНО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1187280" y="4005360"/>
            <a:ext cx="712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зволяет передать качества предметов, явлений в красках, звуках, движениях, ощущениях, формах. Прилагательные уточняют нашу речь, делают ее яркой, красочной, эмоционально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7" descr="Белый"/>
          <p:cNvPicPr/>
          <p:nvPr/>
        </p:nvPicPr>
        <p:blipFill>
          <a:blip r:embed="rId1"/>
          <a:stretch/>
        </p:blipFill>
        <p:spPr>
          <a:xfrm>
            <a:off x="2195640" y="2781360"/>
            <a:ext cx="952200" cy="896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фон7"/>
          <p:cNvPicPr/>
          <p:nvPr/>
        </p:nvPicPr>
        <p:blipFill>
          <a:blip r:embed="rId2"/>
          <a:stretch/>
        </p:blipFill>
        <p:spPr>
          <a:xfrm>
            <a:off x="0" y="-458640"/>
            <a:ext cx="12382560" cy="807696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9"/>
          <p:cNvSpPr/>
          <p:nvPr/>
        </p:nvSpPr>
        <p:spPr>
          <a:xfrm>
            <a:off x="4967280" y="765000"/>
            <a:ext cx="4176720" cy="6409080"/>
          </a:xfrm>
          <a:prstGeom prst="wedgeRoundRectCallout">
            <a:avLst>
              <a:gd name="adj1" fmla="val -78847"/>
              <a:gd name="adj2" fmla="val -28648"/>
              <a:gd name="adj3" fmla="val 16667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5256360" y="1009800"/>
            <a:ext cx="3887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Я имя прилагательное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Я очень замечательное!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Всё о предметах подмечаю –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Я признаки обозначаю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Без признаков предмета нет –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И это вовсе не секрет!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Ведь без меня не скажешь ты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Какого цвета тут цветы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Какие парты, стол какой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Какой котёнок озорной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Я подружиться с вами радо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Мне будут знания наградой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Дружу я с существительным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Очень удивительным…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Picture 12" descr="прилагательное"/>
          <p:cNvPicPr/>
          <p:nvPr/>
        </p:nvPicPr>
        <p:blipFill>
          <a:blip r:embed="rId3"/>
          <a:stretch/>
        </p:blipFill>
        <p:spPr>
          <a:xfrm>
            <a:off x="2268360" y="1484280"/>
            <a:ext cx="14400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2511"/>
                </a:solidFill>
                <a:latin typeface="Arial"/>
              </a:rPr>
              <a:t>Имя прилагательное-</a:t>
            </a:r>
            <a:r>
              <a:rPr b="1" i="1" lang="ru-RU" sz="4000" spc="-1" strike="noStrike">
                <a:solidFill>
                  <a:srgbClr val="e52511"/>
                </a:solidFill>
                <a:latin typeface="Arial"/>
              </a:rPr>
              <a:t>это часть речи, которая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c893e"/>
                </a:solidFill>
                <a:latin typeface="Arial"/>
              </a:rPr>
              <a:t>Обозначает признак предмет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c893e"/>
                </a:solidFill>
                <a:latin typeface="Arial"/>
              </a:rPr>
              <a:t>Отвечает на вопросы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c893e"/>
                </a:solidFill>
                <a:latin typeface="Arial"/>
              </a:rPr>
              <a:t>Какой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c893e"/>
                </a:solidFill>
                <a:latin typeface="Arial"/>
              </a:rPr>
              <a:t>Какое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c893e"/>
                </a:solidFill>
                <a:latin typeface="Arial"/>
              </a:rPr>
              <a:t>Какая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c893e"/>
                </a:solidFill>
                <a:latin typeface="Arial"/>
              </a:rPr>
              <a:t>Какие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c893e"/>
                </a:solidFill>
                <a:latin typeface="Arial"/>
              </a:rPr>
              <a:t>Чей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c893e"/>
                </a:solidFill>
                <a:latin typeface="Arial"/>
              </a:rPr>
              <a:t>Имеет род</a:t>
            </a:r>
            <a:r>
              <a:rPr b="1" lang="en-US" sz="3200" spc="-1" strike="noStrike">
                <a:solidFill>
                  <a:srgbClr val="dc893e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dc893e"/>
                </a:solidFill>
                <a:latin typeface="Arial"/>
              </a:rPr>
              <a:t>число, падеж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5" descr="прилагательное"/>
          <p:cNvPicPr/>
          <p:nvPr/>
        </p:nvPicPr>
        <p:blipFill>
          <a:blip r:embed="rId9"/>
          <a:stretch/>
        </p:blipFill>
        <p:spPr>
          <a:xfrm>
            <a:off x="4788000" y="3213000"/>
            <a:ext cx="171108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b8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читайте текст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79280" y="981000"/>
            <a:ext cx="756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о………утро. ……………солнышко посылало на землю…..……лучи. В…………….воде купали свои………… ветви………….ивы. В зарослях…………осоки прятались………….цветы. Птицы пели свои……………песн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042920" y="981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c82b"/>
                </a:solidFill>
                <a:latin typeface="Arial"/>
              </a:rPr>
              <a:t>ранне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2843280" y="981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c82b"/>
                </a:solidFill>
                <a:latin typeface="Arial"/>
              </a:rPr>
              <a:t>Ласково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1187280" y="13413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c82b"/>
                </a:solidFill>
                <a:latin typeface="Arial"/>
              </a:rPr>
              <a:t>теплы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3348000" y="134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c82b"/>
                </a:solidFill>
                <a:latin typeface="Arial"/>
              </a:rPr>
              <a:t>зеркально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1116000" y="1700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c82b"/>
                </a:solidFill>
                <a:latin typeface="Arial"/>
              </a:rPr>
              <a:t>гибки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3059280" y="170028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c82b"/>
                </a:solidFill>
                <a:latin typeface="Arial"/>
              </a:rPr>
              <a:t>плакучи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1763640" y="2060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c82b"/>
                </a:solidFill>
                <a:latin typeface="Arial"/>
              </a:rPr>
              <a:t>густо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5292720" y="2060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c82b"/>
                </a:solidFill>
                <a:latin typeface="Arial"/>
              </a:rPr>
              <a:t>ярки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2700360" y="2421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c82b"/>
                </a:solidFill>
                <a:latin typeface="Arial"/>
              </a:rPr>
              <a:t>волшебны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5" name="Рисунок 1" descr=""/>
          <p:cNvPicPr/>
          <p:nvPr/>
        </p:nvPicPr>
        <p:blipFill>
          <a:blip r:embed="rId1"/>
          <a:stretch/>
        </p:blipFill>
        <p:spPr>
          <a:xfrm>
            <a:off x="1655640" y="30607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12" descr="фон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13"/>
          <p:cNvSpPr/>
          <p:nvPr/>
        </p:nvSpPr>
        <p:spPr>
          <a:xfrm>
            <a:off x="179280" y="3500280"/>
            <a:ext cx="5761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Бурый, лохматый, косолап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Полосатый, сладкий, сахар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Спелое, круглое, сочно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Picture 14" descr="Сова"/>
          <p:cNvPicPr/>
          <p:nvPr/>
        </p:nvPicPr>
        <p:blipFill>
          <a:blip r:embed="rId2"/>
          <a:stretch/>
        </p:blipFill>
        <p:spPr>
          <a:xfrm>
            <a:off x="324000" y="260280"/>
            <a:ext cx="1904760" cy="202896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16"/>
          <p:cNvSpPr/>
          <p:nvPr/>
        </p:nvSpPr>
        <p:spPr>
          <a:xfrm>
            <a:off x="3132000" y="115920"/>
            <a:ext cx="5472360" cy="1225440"/>
          </a:xfrm>
          <a:prstGeom prst="wedgeRoundRectCallout">
            <a:avLst>
              <a:gd name="adj1" fmla="val -44083"/>
              <a:gd name="adj2" fmla="val 105180"/>
              <a:gd name="adj3" fmla="val 16667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3203640" y="260280"/>
            <a:ext cx="54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казывается, если точно описать предмет с помощью имени прилагательного, можно узнать его, даже не видя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1" name="Picture 18" descr="ARBUZ_DYNYa_s_polya_bez_posrednikov"/>
          <p:cNvPicPr/>
          <p:nvPr/>
        </p:nvPicPr>
        <p:blipFill>
          <a:blip r:embed="rId3"/>
          <a:stretch/>
        </p:blipFill>
        <p:spPr>
          <a:xfrm>
            <a:off x="7020000" y="3933720"/>
            <a:ext cx="1727280" cy="1747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9" descr="Яблоко"/>
          <p:cNvPicPr/>
          <p:nvPr/>
        </p:nvPicPr>
        <p:blipFill>
          <a:blip r:embed="rId4"/>
          <a:stretch/>
        </p:blipFill>
        <p:spPr>
          <a:xfrm>
            <a:off x="4643280" y="5041800"/>
            <a:ext cx="2160720" cy="1816200"/>
          </a:xfrm>
          <a:prstGeom prst="rect">
            <a:avLst/>
          </a:prstGeom>
          <a:ln w="0">
            <a:noFill/>
          </a:ln>
        </p:spPr>
      </p:pic>
      <p:sp>
        <p:nvSpPr>
          <p:cNvPr id="233" name="WordArt 21"/>
          <p:cNvSpPr txBox="1"/>
          <p:nvPr/>
        </p:nvSpPr>
        <p:spPr>
          <a:xfrm>
            <a:off x="2340000" y="2708280"/>
            <a:ext cx="1944720" cy="189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1621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ИГ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pic>
        <p:nvPicPr>
          <p:cNvPr id="234" name="Picture 22" descr="мишка"/>
          <p:cNvPicPr/>
          <p:nvPr/>
        </p:nvPicPr>
        <p:blipFill>
          <a:blip r:embed="rId5"/>
          <a:stretch/>
        </p:blipFill>
        <p:spPr>
          <a:xfrm>
            <a:off x="4932360" y="2133720"/>
            <a:ext cx="183348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2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7:28:40Z</dcterms:created>
  <dc:creator>Юрий Голубь</dc:creator>
  <dc:description/>
  <dc:language>en-US</dc:language>
  <cp:lastModifiedBy>Начальная</cp:lastModifiedBy>
  <dcterms:modified xsi:type="dcterms:W3CDTF">2020-04-18T07:54:07Z</dcterms:modified>
  <cp:revision>27</cp:revision>
  <dc:subject/>
  <dc:title>Самая красочная часть речи</dc:title>
</cp:coreProperties>
</file>